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3.xml"/><Relationship Id="rId1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1.xml"/><Relationship Id="rId11" Type="http://schemas.openxmlformats.org/officeDocument/2006/relationships/slide" Target="slide22.xml"/><Relationship Id="rId1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.xml"/><Relationship Id="rId8" Type="http://schemas.openxmlformats.org/officeDocument/2006/relationships/slide" Target="slide3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5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icht-blutig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it geri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beimeng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pistax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8" idx="3"/>
            <a:endCxn id="195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9" name=""/>
          <p:cNvCxnSpPr>
            <a:stCxn id="198" idx="3"/>
            <a:endCxn id="196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senausfluss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7280" y="54936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asenausfluss/Nie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0" idx="3"/>
            <a:endCxn id="26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65" name=""/>
          <p:cNvCxnSpPr>
            <a:endCxn id="26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orwiegend 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7" idx="3"/>
            <a:endCxn id="27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3" idx="3"/>
            <a:endCxn id="27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3"/>
            <a:endCxn id="28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82" name=""/>
          <p:cNvCxnSpPr>
            <a:stCxn id="279" idx="3"/>
            <a:endCxn id="28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equestr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7" idx="3"/>
            <a:endCxn id="30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5840" y="549360"/>
            <a:ext cx="75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2" idx="3"/>
            <a:endCxn id="30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8" idx="3"/>
            <a:endCxn id="3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95840" y="549360"/>
            <a:ext cx="75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2" idx="3"/>
            <a:endCxn id="31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7" name=""/>
          <p:cNvCxnSpPr>
            <a:endCxn id="31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-blutig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 geri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beimeng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0920" y="549360"/>
            <a:ext cx="76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icht-blutig oder mit geringen Blutbeimeng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2" idx="3"/>
            <a:endCxn id="20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oly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Zahnproble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Grashal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atzenschnupf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spergill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ryptokokk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319" idx="3"/>
            <a:endCxn id="32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24" name=""/>
          <p:cNvCxnSpPr>
            <a:endCxn id="32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800" y="54936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senausfluss/Niesen &gt; Epistaxis &gt; systemische Ursache &gt; 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ämostase &gt; Störung der sekundären Hämostase &gt; 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rinnungsfaktoren &gt; Bildung ↓ &gt; 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6" idx="3"/>
            <a:endCxn id="32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31" idx="3"/>
            <a:endCxn id="33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95840" y="549360"/>
            <a:ext cx="75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örung der sekundären Hämostase &gt; 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rinnungsfaktoren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6" idx="3"/>
            <a:endCxn id="3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pistax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560" y="549360"/>
            <a:ext cx="36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08" idx="3"/>
            <a:endCxn id="21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3" name=""/>
          <p:cNvCxnSpPr>
            <a:stCxn id="208" idx="3"/>
            <a:endCxn id="21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13400" y="54936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ok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5" idx="3"/>
            <a:endCxn id="21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spergill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0" idx="3"/>
            <a:endCxn id="22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4" name=""/>
          <p:cNvCxnSpPr>
            <a:stCxn id="220" idx="3"/>
            <a:endCxn id="22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o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44720" y="549360"/>
            <a:ext cx="60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ystemisch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7" idx="3"/>
            <a:endCxn id="22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1" name=""/>
          <p:cNvCxnSpPr>
            <a:stCxn id="227" idx="3"/>
            <a:endCxn id="22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1095840" y="549360"/>
            <a:ext cx="75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4" idx="3"/>
            <a:endCxn id="236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7" name=""/>
          <p:cNvCxnSpPr>
            <a:stCxn id="234" idx="3"/>
            <a:endCxn id="23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4" idx="3"/>
            <a:endCxn id="239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5840" y="549360"/>
            <a:ext cx="75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95840" y="549360"/>
            <a:ext cx="75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3" idx="3"/>
            <a:endCxn id="24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53" name=""/>
          <p:cNvCxnSpPr>
            <a:stCxn id="249" idx="3"/>
            <a:endCxn id="25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9" idx="3"/>
            <a:endCxn id="254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57" name=""/>
          <p:cNvCxnSpPr>
            <a:stCxn id="249" idx="3"/>
            <a:endCxn id="255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1095840" y="549360"/>
            <a:ext cx="75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asenausfluss/Nie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pistax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ystem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0:02:12Z</dcterms:modified>
  <cp:revision>330</cp:revision>
  <dc:subject/>
  <dc:title>Vorstellung einer Neuheit</dc:title>
</cp:coreProperties>
</file>